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104F-5626-4F49-B600-6B4EEE8F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1335-C845-4312-A806-97F518D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452E-4A24-40E4-AEDD-C12BF9AE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3723-967C-411D-AF7F-9E8799EC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556-22FC-482D-8CC2-A1C76297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9672-47ED-4CFC-A9E4-509457B9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676C-821A-4C1F-AC6E-8D452D95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AADE-27D4-4943-87D3-F436B86F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6FB4-EA6F-4640-8890-42677E86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C167-56FD-4863-80B7-C8DDA077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CB2C-513D-4DC6-8E28-0E418D6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48E4-F642-405F-B23F-49C57D91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FCF-948D-426E-B519-F657166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2DA6-5798-42D6-9E30-0736D7C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BE63-1E17-402A-8E5B-27247174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253-3531-447F-9EB8-8C48765C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D3F-FF96-486D-AEAF-50E40EC8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03B6-A6ED-45D0-8BF2-22B54C3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F6E2-3FC0-4914-BB51-9FEA71E4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F8A5-B1BE-40A3-A4DD-E2DC9FF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82A9-1351-49EF-BC1C-37706DF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B77A-3E63-4EA9-84B8-B2918BC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70B5-5CF2-49EC-9CBD-21C15289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9D8C-B5BC-4D4E-A466-CFF102B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034B-8114-4D5F-B4B3-49388DC5C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10DC-DD2F-40A9-A056-0BE2930DF6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hadedrelief.com/physical/usa_zoom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ecrobeck@salisbury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r. Ed Robeck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16920" y="2779560"/>
            <a:ext cx="723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lisbury University, Maryland,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 Geological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bright Research Sch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versiti Kebangsaan Malay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Resear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29080" y="1920960"/>
            <a:ext cx="3887640" cy="3887640"/>
            <a:chOff x="2629080" y="1920960"/>
            <a:chExt cx="3887640" cy="3887640"/>
          </a:xfrm>
        </p:grpSpPr>
        <p:sp>
          <p:nvSpPr>
            <p:cNvPr id="134" name="_s21512"/>
            <p:cNvSpPr/>
            <p:nvPr/>
          </p:nvSpPr>
          <p:spPr>
            <a:xfrm>
              <a:off x="3251160" y="192096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21513"/>
            <p:cNvSpPr/>
            <p:nvPr/>
          </p:nvSpPr>
          <p:spPr>
            <a:xfrm rot="5400000">
              <a:off x="3873600" y="254304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1518"/>
            <p:cNvSpPr/>
            <p:nvPr/>
          </p:nvSpPr>
          <p:spPr>
            <a:xfrm rot="10800000">
              <a:off x="3251160" y="316548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1515"/>
            <p:cNvSpPr/>
            <p:nvPr/>
          </p:nvSpPr>
          <p:spPr>
            <a:xfrm rot="16200000">
              <a:off x="2629080" y="254340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1510"/>
            <p:cNvSpPr/>
            <p:nvPr/>
          </p:nvSpPr>
          <p:spPr>
            <a:xfrm>
              <a:off x="5276880" y="2163960"/>
              <a:ext cx="995400" cy="9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Desig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21511"/>
            <p:cNvSpPr/>
            <p:nvPr/>
          </p:nvSpPr>
          <p:spPr>
            <a:xfrm>
              <a:off x="5278320" y="456732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Imple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1514"/>
            <p:cNvSpPr/>
            <p:nvPr/>
          </p:nvSpPr>
          <p:spPr>
            <a:xfrm>
              <a:off x="2871720" y="216684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Focu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21517"/>
            <p:cNvSpPr/>
            <p:nvPr/>
          </p:nvSpPr>
          <p:spPr>
            <a:xfrm>
              <a:off x="2874960" y="457056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Reflec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481000" y="1371600"/>
            <a:ext cx="35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Strategies &amp; 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(Learning Obj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880" y="167652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Science Inqui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3320" y="556272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2440" y="55627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r. Ed Robeck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240" y="32000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role can “learning objects” play in science instruction, especially with respect to science inqui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potential of online learning for the professional development of science teach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870120"/>
            <a:ext cx="9588600" cy="6432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19720" y="3352680"/>
            <a:ext cx="15228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276720"/>
            <a:ext cx="152280" cy="15228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724280"/>
            <a:ext cx="15264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3124080"/>
            <a:ext cx="15228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066680"/>
            <a:ext cx="15228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352680"/>
            <a:ext cx="152640" cy="1526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3505320"/>
            <a:ext cx="15264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ory P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ecrobeck@salisbury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17-547728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ing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ine Professional Developmen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just happened her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3911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35812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happened here awhile ag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47840" cy="632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324480"/>
            <a:ext cx="40384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n you say from observing thi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07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209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o you know about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76480" y="1600200"/>
            <a:ext cx="6794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0:39:43Z</dcterms:created>
  <dc:creator>Ed Robeck</dc:creator>
  <dc:description/>
  <dc:language>en-US</dc:language>
  <cp:lastModifiedBy>Ed Robeck</cp:lastModifiedBy>
  <dcterms:modified xsi:type="dcterms:W3CDTF">2008-04-09T00:47:16Z</dcterms:modified>
  <cp:revision>6</cp:revision>
  <dc:subject/>
  <dc:title>Dr. Ed Robeck</dc:title>
</cp:coreProperties>
</file>